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4192-6223-49D0-A911-DC11F6C66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4C3E-8D04-4FF6-880D-00E215080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587A-CAE1-4858-B7B1-7E8E9CE3D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4ADA-16A5-4087-87BB-F4E020CEF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DEAC-9764-4F22-B8DD-3F7E1A36B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83B9-68E4-498C-9FD8-3E48DF63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140A-475F-46A2-9267-F192D5EF7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42FD-1D6D-4A20-961C-9ACE00C80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C7DE-ABA7-49EE-8939-0070D4C79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5E61-B3E2-4278-9106-A8949407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B754-ACE5-406B-9A63-26494D7D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2AC5-0E47-431B-A6AA-2C3A9A96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3725E-8FF6-4AD2-BBDC-D82630B004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payvand.com/news/08/may/1068.html" TargetMode="External"/><Relationship Id="rId2" Type="http://schemas.openxmlformats.org/officeDocument/2006/relationships/hyperlink" Target="http://www.123independenceday.com/iran/economy.html" TargetMode="External"/><Relationship Id="rId3" Type="http://schemas.openxmlformats.org/officeDocument/2006/relationships/hyperlink" Target="http://www.iranchamber.com/history/historic_periods.php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ed to you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ey Wenschh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nathan 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our of I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 cit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vand. 7 may 2008. Netnative. 18 February 2009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payvand.com/news/08/may/1068.html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day. com. 2008. compare InfoBase limited. 18 February 200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123independenceday.com/iran/economy.html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an Chamber Society. 18 February 2009. Iran Chamber Society. 18 February 2009.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iranchamber.com/history/historic_periods.php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tion of Ira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an’s location is surrounded by Afghanistan, Pakistan, Soviet Union, Saudi Arabia, Turkey, and Iraq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Iran most of the land is desert such as the Near Yzad deser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more 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an could be divided into the major river basins. The Central Plateau in the middle, Lake Orumieh basin in the North-West. The Persian Gulf, and also the Gulf of Oman in the West and So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an’s natural hazards are pretty harsh.  Hazards Iran has to deal with is periodic droughts, floods, dust storms, sand storms, and earthquak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ive Wild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an has animals such as wild boar, bears, eagles, pheasant, cattle, horses, panthers, and wild pi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an’s common vegetation include brown soil as far as forest climate soil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1120" y="339840"/>
            <a:ext cx="795816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ran’s emperor is Mohammad Reza Pahlav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ther political leaders are the leader of the revolution is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Ayatollah Sayyed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Ruhollah Mousavi Khomein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 &amp;Current Ev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38480" cy="5410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amite Empire 2500-644 B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dian Empire 728-550 B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haemenid Empire 550-330 B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ucid Empire 306-c 150 B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hian Empire 247 BCE 224 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ssania Empire 224-642 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ic Conquest 636 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ffarid Dynasty 861-900 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anid Dynasty 819-999 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ivarid Dynasty 927-1043 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haznavid Dynasty 962-1186 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favid Empire 1502-17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fsharid Dynasty 1736-17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and Dynasty 1757-17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ajar Dynasty 1794-19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hlavi Dynasty 1925-19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lamic Revolution 19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y- 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ex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petrole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carp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gricultural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iner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eracy- 8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mong 139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cy- Iranian rial (IR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ltu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oman wear “lappa” and bu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n wear “vai shirt” and “thouser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ost of the Iran food have veg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y speak Fars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90% population are Musl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ligious buil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ce to vis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ehran Pasargadae city Soltsniye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akht-E-soleyman Tchogha Zanbil I the city tourist att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istorical attractions- tchogha Zabni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ersepolis, takht-E-Soleyman, and b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7:39:55Z</dcterms:created>
  <dc:creator>coreyewenschhof</dc:creator>
  <dc:description/>
  <dc:language>en-US</dc:language>
  <cp:lastModifiedBy>McFaddeR</cp:lastModifiedBy>
  <dcterms:modified xsi:type="dcterms:W3CDTF">2009-03-04T20:31:49Z</dcterms:modified>
  <cp:revision>6</cp:revision>
  <dc:subject/>
  <dc:title>The Tour of Iran</dc:title>
</cp:coreProperties>
</file>